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32B41-05F1-4E97-8049-B952ECF34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EEE5-C88C-4683-8865-E9E26750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484D8-13C1-4B0B-8CDC-4002EE79C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BDBC2-334A-46BC-B347-00D9C9D1D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77514-F194-400C-B76B-7303A6F50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460FA-A26C-484E-B469-D0E94E7E2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26780-90DF-4F8D-9399-C23D07CB6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B82A5-E4E1-43FE-8888-11D82C803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989C9-70A3-4B3B-B474-ED3B9A6FD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96F2A-442C-4E08-AFBE-C0B4C1FD4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52054-6C3C-4DC6-A5C5-77844D88D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742D0-89AC-47B8-B53C-3BA36115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102B1-6E44-4913-B6F2-0F6DF221A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A2213-D13A-4F82-89FF-D77EB4A29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8AD7B-D99A-4955-A974-F3108AB24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5E7CF-F9BF-4ED8-8EE9-BF86AE08E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4356C-23D8-4994-B475-846EFA8D6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6D257F-A2FB-47EA-9EAD-BF5660DF8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B22CD1-C560-49EE-A03C-4EA584F54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162D8A-8A1F-4C6D-936E-BC907D96C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CDC7C8-9A2A-4DB6-A28C-561C54F25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2E8C28-EDA8-430B-9579-B40344144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4AAC-2BFC-4147-9D85-B7488BF95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B398A2-76C9-4DE6-86CF-32950AFA3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680E6F-B573-4991-B4DE-625CA79A8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2AFC47-B628-4D49-872B-193449A8D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686D1A-51FB-4800-A2FC-63CFF7534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A54F5EC-2FF2-47FD-AB98-CFD2449CE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B009D88-D944-4CEE-AE6E-4877A1908D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F45598C-215D-41DF-B997-67A142FA51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893F48-F7CF-471F-A665-9380EB1A9E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76F22-1959-45FB-A540-8C3AEC2F2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4D210-D397-42FA-859A-FEA18CCED7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FF3B-7D60-4DC3-AAC8-0435D0B5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CBE712-3D60-4CF6-AB81-B017568BC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B13AF-37FD-4B6F-831D-177880565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1E968-926D-442B-BA49-E46C805B0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25039-76AB-49FD-A6C5-263E1B586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7FB80-4C9F-486C-B610-113AB998A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D5FB2-4AF7-499C-ADCA-B644A1EF4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3F9D1-0A06-4504-B802-941FAD6A0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8F973-6075-47D7-A68A-8741D93BE3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529C64-F63F-4B96-8C98-205DBE04E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CA0832-DB3E-4238-9DA7-171857CD3E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C8EE8-C7BD-40EB-AC00-804BEA8D8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4CAA51-2084-4113-9BF2-154A9A715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9BFE8C-AEF0-4F49-8C73-307C65B72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209CFB-4652-4A98-8DA1-A82FB21DA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11E038-B66C-4BBC-98B5-A3978F360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FA1E2B-9413-4755-B284-2253BEF56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0C0928-48C1-4FC0-B311-0A1686D6F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76A7E5-E03B-4C1B-BDF0-04734ECDA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553D1D-55E5-46AF-A748-05945D1A6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93AA66-45B3-4C49-8B65-A6376D49F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C55C0D7-4CEF-4393-BFB2-A7B4584E9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30723-B8A3-4878-BC70-356AA06EB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84C95D5-E6C8-44E6-AFE2-9F32FA3D6A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B9ABB6-9013-4DD7-8ED7-D1B0992A52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EE5175-927E-40F9-81A9-458FFE72C5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71A3FD-2550-40D2-B9A6-FDA82EAF95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708D0-C281-4E0B-9422-C409AFCC5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142C76-8509-4C2B-A50E-44E77F2E6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3CAB1-945A-4766-B0CD-A224153EF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4C41B-C5E6-4D1B-BAB8-112ED3693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D9F19-2B70-44A0-BE36-EF734675C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1F8B3-4430-494A-A1D3-4A4EA4D3B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1FB9-8F13-41AE-BF45-111B51E2A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1D5DF-614C-4D4E-BE11-C9C4B5E8D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738275-BA61-4C04-AE34-9CAFD4810A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1EA00A-3F3D-44F4-941A-A0805D123F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FBF3D-4E9C-4C09-BF16-6CA002E6C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38C5-202D-4D27-BCF5-0E00A3272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3CB8-A972-4DEC-974E-971F47DED2FA}"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4" name="Rettango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ttango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ttango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13CD-BFCD-466F-AE1F-F57550594187}"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ttangolo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ttangolo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ttangolo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449D-44CF-40E8-9911-B57572CF7BC4}" type="datetime">
              <a:rPr b="0" lang="it-IT" sz="2000" spc="-1" strike="noStrike">
                <a:solidFill>
                  <a:srgbClr val="ffffff"/>
                </a:solidFill>
                <a:latin typeface="Calibri"/>
              </a:rPr>
              <a:t>29/07/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dc3"/>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0D29-9E17-4612-BE8F-7166F050DF17}" type="slidenum">
              <a:rPr b="1" lang="it-IT"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ttangolo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ttangolo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ttangolo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07C4-D887-4729-BA6C-8F96DE016C17}"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0B8A-0DF6-4B10-A16B-2E57976490EF}" type="slidenum">
              <a:rPr b="1" lang="it-IT"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9021-408D-4680-9FED-C99521537049}"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1091-F8E0-4920-90D4-6D33B786E045}" type="slidenum">
              <a:rPr b="1" lang="it-IT"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ttangolo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ttangolo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ttangolo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ttangolo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33AA-D945-4417-AF1B-58717F715A05}"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26D5-4CFC-4CCB-925A-5E61D26768F1}" type="slidenum">
              <a:rPr b="1" lang="it-IT"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ttangolo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ttangolo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ttangolo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6DAB-B26E-4586-B977-DF47B343EDDD}" type="datetime">
              <a:rPr b="0" lang="it-IT" sz="1400" spc="-1" strike="noStrike">
                <a:solidFill>
                  <a:srgbClr val="775f55"/>
                </a:solidFill>
                <a:latin typeface="Calibri"/>
              </a:rPr>
              <a:t>29/07/26</a:t>
            </a:fld>
            <a:endParaRPr b="0" lang="en-US" sz="1400" spc="-1" strike="noStrike">
              <a:solidFill>
                <a:srgbClr val="000000"/>
              </a:solidFill>
              <a:latin typeface="Calibri"/>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CEFE-1EB6-4E04-BCE7-740EC56594C8}"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miur.gov.it/web/guest/news/-/asset_publisher/ubIwoWFcqWhG/content/istruzione-degli-adulti-e-apprendimento-permanente-avvio-iii-annualita-del-progetto-edufincpia-trasmissione-linee-guida-iii-edizione-a-s-2018-20-1?inheritRedirect=false&amp;redirect=https://www.miur.gov.it:443/web/guest/news?p_p_id=101_INSTANCE_ubIwoWFcqWhG&amp;p_p_lifecycle=0&amp;p_p_state=normal&amp;p_p_mode=view&amp;p_p_col_id=column-2&amp;p_p_col_count=1&amp;p_r_p_564233524_categoryId=8868460&amp;p_r_p_564233524_resetCur=tru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18864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3" name=""/>
          <p:cNvSpPr txBox="1"/>
          <p:nvPr/>
        </p:nvSpPr>
        <p:spPr>
          <a:xfrm>
            <a:off x="539280" y="1628280"/>
            <a:ext cx="8153640" cy="449604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 il Decreto Direttoriale n. 1329 del 2 ottobre 2018, acquisite le designazioni degli UUSSRR e dell’INDIRE, è stato aggiornato e ricostituito nei compiti il Gruppo di Lavoro Nazionale P.A.I.DE.I.A., coordinato dal Dirigente Tecnico Sebastian Amelio. Con il suddetto decreto, fra l’altro, sono state integrate le competenze del Gruppo di Lavoro Nazionale P.A.I.DE.I.A. con quelle del Comitato Tecnico Nazionale Edufin di cui al decreto 68/2017, secondo la decisione condivisa nel corso dell’incontro del suddetto Comitato Tecnico Nazionale Edufin del 14 giugno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In data 4 ottobre 2018 si è insediato il nuovo Gruppo di Lavoro Nazionale P.A.I.DE.I.A. Nel corso dell’incontro è stato, fra l’altro, presentato il Monitoraggio  EDUFIN-CPIA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a:t>
            </a:r>
            <a:r>
              <a:rPr b="1" lang="it-IT" sz="1200" spc="-1" strike="noStrike">
                <a:solidFill>
                  <a:srgbClr val="000000"/>
                </a:solidFill>
                <a:latin typeface="Tw Cen MT"/>
              </a:rPr>
              <a:t>nota prot. n. 18171 del 23 ottobre 2018</a:t>
            </a:r>
            <a:r>
              <a:rPr b="0" lang="it-IT" sz="1200" spc="-1" strike="noStrike">
                <a:solidFill>
                  <a:srgbClr val="000000"/>
                </a:solidFill>
                <a:latin typeface="Tw Cen MT"/>
              </a:rPr>
              <a:t>, ad esito dell’incontro del 4 ottobre 2018 e successive interlocuzioni, </a:t>
            </a:r>
            <a:r>
              <a:rPr b="1" lang="it-IT" sz="1200" spc="-1" strike="noStrike">
                <a:solidFill>
                  <a:srgbClr val="000000"/>
                </a:solidFill>
                <a:latin typeface="Tw Cen MT"/>
              </a:rPr>
              <a:t>la DGOSV ha richiamato agli Uffici Scolastici Regionali</a:t>
            </a:r>
            <a:r>
              <a:rPr b="0" lang="it-IT" sz="1200" spc="-1" strike="noStrike">
                <a:solidFill>
                  <a:srgbClr val="000000"/>
                </a:solidFill>
                <a:latin typeface="Tw Cen MT"/>
              </a:rPr>
              <a:t> le decisioni assunte in occasione dell’incontro medesimo. In particolare </a:t>
            </a:r>
            <a:r>
              <a:rPr b="1" lang="it-IT" sz="1200" spc="-1" strike="noStrike">
                <a:solidFill>
                  <a:srgbClr val="000000"/>
                </a:solidFill>
                <a:latin typeface="Tw Cen MT"/>
              </a:rPr>
              <a:t>la richiesta di comunicare l’adesione al Progetto Edufin CPIA per l’a.s. 2018/2019 con l’indicazione dei CPIA partecipanti e il numero dei docenti delle classi di concorso A45 e A46 assegna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M. n. 721 del 14 novembre 2018 [art. 4, comma 2, lett. b)] sono stati destinati 250.000,00 euro alla promozione dell'educazione finanziaria per gli adulti</a:t>
            </a:r>
            <a:r>
              <a:rPr b="0" lang="it-IT" sz="1200" spc="-1" strike="noStrike">
                <a:solidFill>
                  <a:srgbClr val="000000"/>
                </a:solidFill>
                <a:latin typeface="Tw Cen MT"/>
              </a:rPr>
              <a:t> nei CPIA aderenti al </a:t>
            </a:r>
            <a:r>
              <a:rPr b="1" lang="it-IT" sz="1200" spc="-1" strike="noStrike">
                <a:solidFill>
                  <a:srgbClr val="000000"/>
                </a:solidFill>
                <a:latin typeface="Tw Cen MT"/>
              </a:rPr>
              <a:t>Progetto EDUFIN-CPIA</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In data 14 dicembre 2018, in occasione dell’ incontro del Gruppo di Lavoro Nazionale P.A.I.DE.I.A., sono stati presentati gli esiti del monitoraggio del Progetto Edufin CPIA per l’a.s. 2017/2018 - a cura dell’USR Toscana</a:t>
            </a:r>
            <a:r>
              <a:rPr b="0" lang="it-IT" sz="1200" spc="-1" strike="noStrike">
                <a:solidFill>
                  <a:srgbClr val="000000"/>
                </a:solidFill>
                <a:latin typeface="Tw Cen MT"/>
              </a:rPr>
              <a:t> </a:t>
            </a:r>
            <a:r>
              <a:rPr b="1" lang="it-IT" sz="1200" spc="-1" strike="noStrike">
                <a:solidFill>
                  <a:srgbClr val="000000"/>
                </a:solidFill>
                <a:latin typeface="Tw Cen MT"/>
              </a:rPr>
              <a:t>– relativi all’efficacia delle cinque UDA</a:t>
            </a:r>
            <a:r>
              <a:rPr b="0" lang="it-IT" sz="1200" spc="-1" strike="noStrike">
                <a:solidFill>
                  <a:srgbClr val="000000"/>
                </a:solidFill>
                <a:latin typeface="Tw Cen MT"/>
              </a:rPr>
              <a:t> (definite nelle Linee Guida) declinata secondo i tre indicatori condivisi nell’ambito del Gruppo di Lavoro Nazionale P.A.I.DE.I.A. (non pertinente: con un grado di difficoltà sovradimensionato rispetto al livello del percorso; non significativa: non direttamente influente per il conseguimento della competenza collegata; non congruente: non compatibile con il monte ore previsto); nonché la proposta di aggiornamento – a cura dell’USR Emilia Romagna - delle Linee Guida del progetto Edufin CPIA per l’a.s. 2018/2019, redatta sulla base delle osservazioni prodotte dai componenti il Gruppo di Lavoro Nazionale P.A.I.DE.I.A.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3"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Il Progetto Edufin-CPIA costituisce un quadro di riferimento comune italiano dell’Educazione finanziaria per gli adul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ualizzazione: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riferimenti a </a:t>
            </a:r>
            <a:r>
              <a:rPr b="1" lang="it-IT" sz="1200" spc="-1" strike="noStrike">
                <a:solidFill>
                  <a:srgbClr val="000000"/>
                </a:solidFill>
                <a:latin typeface="Tw Cen MT"/>
              </a:rPr>
              <a:t>indagini nazionali ed internazionali sui fabbisogni di alfabetizzazione finanziaria della popolazione italiana</a:t>
            </a:r>
            <a:r>
              <a:rPr b="0" lang="it-IT" sz="1200" spc="-1" strike="noStrike">
                <a:solidFill>
                  <a:srgbClr val="000000"/>
                </a:solidFill>
                <a:latin typeface="Tw Cen MT"/>
              </a:rPr>
              <a:t>; a cura di Istituzioni qualificate (OCSE, Consob, Banca d’Italia, IVASS, Feduf …);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ffermazione della </a:t>
            </a:r>
            <a:r>
              <a:rPr b="1" lang="it-IT" sz="1200" spc="-1" strike="noStrike">
                <a:solidFill>
                  <a:srgbClr val="000000"/>
                </a:solidFill>
                <a:latin typeface="Tw Cen MT"/>
              </a:rPr>
              <a:t>dimensione etica </a:t>
            </a:r>
            <a:r>
              <a:rPr b="0" lang="it-IT" sz="1200" spc="-1" strike="noStrike">
                <a:solidFill>
                  <a:srgbClr val="000000"/>
                </a:solidFill>
                <a:latin typeface="Tw Cen MT"/>
              </a:rPr>
              <a:t>dell’educazione finanziaria.</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serimento organico nel </a:t>
            </a:r>
            <a:r>
              <a:rPr b="1" lang="it-IT" sz="1200" spc="-1" strike="noStrike">
                <a:solidFill>
                  <a:srgbClr val="000000"/>
                </a:solidFill>
                <a:latin typeface="Tw Cen MT"/>
              </a:rPr>
              <a:t>Piano nazionale di garanzia delle competenze;</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riferimenti a: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Agenda 2030 </a:t>
            </a:r>
            <a:r>
              <a:rPr b="0" lang="it-IT" sz="1200" spc="-1" strike="noStrike">
                <a:solidFill>
                  <a:srgbClr val="000000"/>
                </a:solidFill>
                <a:latin typeface="Tw Cen MT"/>
              </a:rPr>
              <a:t>per lo Sviluppo Sostenibile</a:t>
            </a:r>
            <a:r>
              <a:rPr b="1"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Raccomandazione del Consiglio  d’Europa sulle competenze chiave per l’apprendimento permanente </a:t>
            </a:r>
            <a:r>
              <a:rPr b="0" lang="it-IT" sz="1200" spc="-1" strike="noStrike">
                <a:solidFill>
                  <a:srgbClr val="000000"/>
                </a:solidFill>
                <a:latin typeface="Tw Cen MT"/>
              </a:rPr>
              <a:t>- 22 maggio 2018</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6"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DA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9"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nità Di Apprendimento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2"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Sono state usate: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ratiche didattiche integrate</a:t>
            </a:r>
            <a:r>
              <a:rPr b="0" lang="it-IT" sz="1200" spc="-1" strike="noStrike">
                <a:solidFill>
                  <a:srgbClr val="000000"/>
                </a:solidFill>
                <a:latin typeface="Tw Cen MT"/>
              </a:rPr>
              <a:t>: docenti CPIA, Docenti A45 e A46, esperti esterni ed istituzioni finanziarie</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metodologie e tecniche interattivo-attive, innovative e integrate </a:t>
            </a:r>
            <a:r>
              <a:rPr b="0" lang="it-IT" sz="1200" spc="-1" strike="noStrike">
                <a:solidFill>
                  <a:srgbClr val="000000"/>
                </a:solidFill>
                <a:latin typeface="Tw Cen MT"/>
              </a:rPr>
              <a:t>come ad esempio: didattica laboratoriale; </a:t>
            </a:r>
            <a:r>
              <a:rPr b="0" i="1" lang="it-IT" sz="1200" spc="-1" strike="noStrike">
                <a:solidFill>
                  <a:srgbClr val="000000"/>
                </a:solidFill>
                <a:latin typeface="Tw Cen MT"/>
              </a:rPr>
              <a:t>piazza del sapere; brain storming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elaborate </a:t>
            </a:r>
            <a:r>
              <a:rPr b="1" lang="it-IT" sz="1200" spc="-1" strike="noStrike">
                <a:solidFill>
                  <a:srgbClr val="000000"/>
                </a:solidFill>
                <a:latin typeface="Tw Cen MT"/>
              </a:rPr>
              <a:t>rubriche e griglie per la valutazione e modalità di certifica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5" name=""/>
          <p:cNvSpPr txBox="1"/>
          <p:nvPr/>
        </p:nvSpPr>
        <p:spPr>
          <a:xfrm>
            <a:off x="539280" y="1628280"/>
            <a:ext cx="8153640" cy="4496040"/>
          </a:xfrm>
          <a:prstGeom prst="rect">
            <a:avLst/>
          </a:prstGeom>
          <a:noFill/>
          <a:ln w="0">
            <a:noFill/>
          </a:ln>
        </p:spPr>
        <p:txBody>
          <a:bodyPr anchor="t">
            <a:normAutofit fontScale="85000"/>
          </a:bodyPr>
          <a:p>
            <a:pPr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 corso delle tre edizioni sono stati: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w Cen MT"/>
              </a:rPr>
              <a:t>alfabetizzati migliaia di adulti in tutta Italia</a:t>
            </a:r>
            <a:r>
              <a:rPr b="1" lang="it-IT" sz="1200" spc="-1" strike="noStrike">
                <a:solidFill>
                  <a:srgbClr val="000000"/>
                </a:solidFill>
                <a:latin typeface="Tw Cen MT"/>
              </a:rPr>
              <a:t>;</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costituiti partenariati stabili</a:t>
            </a:r>
            <a:r>
              <a:rPr b="0" lang="it-IT" sz="1200" spc="-1" strike="noStrike">
                <a:solidFill>
                  <a:srgbClr val="000000"/>
                </a:solidFill>
                <a:latin typeface="Tw Cen MT"/>
              </a:rPr>
              <a:t> sui territori con i soggetti istituzionali individuati: Banca d’Italia, Feduf, Consob, MDR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laborati materiali specifici capitalizzabili</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ha meritato </a:t>
            </a:r>
            <a:r>
              <a:rPr b="1" lang="it-IT" sz="1200" spc="-1" strike="noStrike">
                <a:solidFill>
                  <a:srgbClr val="000000"/>
                </a:solidFill>
                <a:latin typeface="Tw Cen MT"/>
              </a:rPr>
              <a:t>l’attenzione del Comitato per la programmazione e il coordinamento delle attività di Educazione finanziar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6"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21310 del 20 dicembre 2018, ad esito dell’incontro del 14 dicembre 2018</a:t>
            </a:r>
            <a:r>
              <a:rPr b="0" lang="it-IT" sz="1200" spc="-1" strike="noStrike">
                <a:solidFill>
                  <a:srgbClr val="000000"/>
                </a:solidFill>
                <a:latin typeface="Tw Cen MT"/>
              </a:rPr>
              <a:t> e successive interlocuzioni, </a:t>
            </a:r>
            <a:r>
              <a:rPr b="1" lang="it-IT" sz="1200" spc="-1" strike="noStrike">
                <a:solidFill>
                  <a:srgbClr val="000000"/>
                </a:solidFill>
                <a:latin typeface="Tw Cen MT"/>
              </a:rPr>
              <a:t>la DGOSV ha richiamato agli Uffici Scolastici Regionali </a:t>
            </a:r>
            <a:r>
              <a:rPr b="0" lang="it-IT" sz="1200" spc="-1" strike="noStrike">
                <a:solidFill>
                  <a:srgbClr val="000000"/>
                </a:solidFill>
                <a:latin typeface="Tw Cen MT"/>
              </a:rPr>
              <a:t>le decisioni assunte in occasione dell’incontro medesimo. In particolare è stato precisato che l’USR per la Toscana provvederà ad inviare all’USR per l’Emilia Romagna entro il 27 dicembre 2018 una nota integrativa relativa ai criteri utilizzati per la modifica delle conoscenze e abilità delle cinque UDA presenti nelle Linee Guida del progetto Edufin CPIA  a.s. 2018/2019</a:t>
            </a:r>
            <a:r>
              <a:rPr b="1" lang="it-IT" sz="1200" spc="-1" strike="noStrike">
                <a:solidFill>
                  <a:srgbClr val="000000"/>
                </a:solidFill>
                <a:latin typeface="Tw Cen MT"/>
              </a:rPr>
              <a:t>, nonché all’attivazione di un’apposita sezione del Monitoraggio on-line,</a:t>
            </a:r>
            <a:r>
              <a:rPr b="0" lang="it-IT" sz="1200" spc="-1" strike="noStrike">
                <a:solidFill>
                  <a:srgbClr val="000000"/>
                </a:solidFill>
                <a:latin typeface="Tw Cen MT"/>
              </a:rPr>
              <a:t> funzionale a favorire la rilevazione dei dati contenuti nelle rubriche di valutazione delle Linee guida medesime; l’USR per l’Emilia Romagna provvederà ad inviare all’Ufficio VI entro il 28 dicembre 2018 la versione così perfezionata della bozza delle Linee Guida già presentata in occasione dell’incontro del 14 dicembre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149 del 18 gennaio 2019 la DGOSV ha comunicato agli UUSSRR l’avvio della III Annualità del Progetto “EDUFIN-CPIA” e trasmesso le Linee Guida della III Edizione (a.s. 2018/2019).</a:t>
            </a:r>
            <a:r>
              <a:rPr b="0" lang="it-IT" sz="1200" spc="-1" strike="noStrike">
                <a:solidFill>
                  <a:srgbClr val="000000"/>
                </a:solidFill>
                <a:latin typeface="Tw Cen MT"/>
              </a:rPr>
              <a:t> Alle Linee Guida sono, altresì, </a:t>
            </a:r>
            <a:r>
              <a:rPr b="1" lang="it-IT" sz="1200" spc="-1" strike="noStrike">
                <a:solidFill>
                  <a:srgbClr val="000000"/>
                </a:solidFill>
                <a:latin typeface="Tw Cen MT"/>
              </a:rPr>
              <a:t>allegati il monitoraggio relativo alla seconda annualità</a:t>
            </a:r>
            <a:r>
              <a:rPr b="0" lang="it-IT" sz="1200" spc="-1" strike="noStrike">
                <a:solidFill>
                  <a:srgbClr val="000000"/>
                </a:solidFill>
                <a:latin typeface="Tw Cen MT"/>
              </a:rPr>
              <a:t> e il documento metodologico relativo all'aggiornamento delle conoscenze e abilità delle unità di apprendimento, redatti dall'Ufficio Scolastico Regionale per la Toscana. </a:t>
            </a:r>
            <a:r>
              <a:rPr b="1" lang="it-IT" sz="1200" spc="-1" strike="noStrike">
                <a:solidFill>
                  <a:srgbClr val="000000"/>
                </a:solidFill>
                <a:latin typeface="Tw Cen MT"/>
              </a:rPr>
              <a:t>Dal </a:t>
            </a:r>
            <a:r>
              <a:rPr b="0" lang="it-IT" sz="1200" spc="-1" strike="noStrike">
                <a:solidFill>
                  <a:srgbClr val="000000"/>
                </a:solidFill>
                <a:latin typeface="Tw Cen MT"/>
              </a:rPr>
              <a:t>suddetto </a:t>
            </a:r>
            <a:r>
              <a:rPr b="1" lang="it-IT" sz="1200" spc="-1" strike="noStrike">
                <a:solidFill>
                  <a:srgbClr val="000000"/>
                </a:solidFill>
                <a:latin typeface="Tw Cen MT"/>
              </a:rPr>
              <a:t>monitoraggio, in particolare, risulta che nell'a.s. 2017/2018 hanno partecipato al Progetto tutti gli Uffici Scolastici Regionali con 97 CPIA, per un totale di 2.223 corsisti, con un netto incremento rispetto all'a.s. 2016/2017</a:t>
            </a:r>
            <a:r>
              <a:rPr b="0" lang="it-IT" sz="1200" spc="-1" strike="noStrike">
                <a:solidFill>
                  <a:srgbClr val="000000"/>
                </a:solidFill>
                <a:latin typeface="Tw Cen MT"/>
              </a:rPr>
              <a:t>. Nella terza annualità si prevede la partecipazione di tutti gli Uffici Scolastici Regionali con 86 CPIA. La circolare e i relativi allegati sono pubblicati sul sito del MIUR al link:</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f7b615"/>
                </a:solidFill>
                <a:uFillTx/>
                <a:latin typeface="Tw Cen MT"/>
                <a:hlinkClick r:id="rId1"/>
              </a:rPr>
              <a:t>https://www.miur.gov.it/web/guest/news/-/asset_publisher/ubIwoWFcqWhG/content/istruzione-degli-adulti-e-apprendimento-permanente-avvio-iii-annualita-del-progetto-edufincpia-trasmissione-linee-guida-iii-edizione-a-s-2018-20-1?inheritRedirect=false&amp;redirect=https%3A%2F%2Fwww.miur.gov.it%3A443%2Fweb%2Fguest%2Fnews%3Fp_p_id%3D101_INSTANCE_ubIwoWFcqWhG%26p_p_lifecycle%3D0%26p_p_state%3Dnormal%26p_p_mode%3Dview%26p_p_col_id%3Dcolumn-2%26p_p_col_count%3D1%26p_r_p_564233524_categoryId%3D8868460%26p_r_p_564233524_resetCur%3Dtrue</a:t>
            </a:r>
            <a:endParaRPr b="0" lang="en-US" sz="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6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9" name=""/>
          <p:cNvSpPr txBox="1"/>
          <p:nvPr/>
        </p:nvSpPr>
        <p:spPr>
          <a:xfrm>
            <a:off x="539280" y="1628280"/>
            <a:ext cx="8153640" cy="449604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ecreto n. 98 del 7 febbraio 2019, </a:t>
            </a:r>
            <a:r>
              <a:rPr b="0" lang="it-IT" sz="1200" spc="-1" strike="noStrike">
                <a:solidFill>
                  <a:srgbClr val="000000"/>
                </a:solidFill>
                <a:latin typeface="Tw Cen MT"/>
              </a:rPr>
              <a:t>emanato ai sensi dell’art. 4, comma 3 del DM 721/2018,</a:t>
            </a:r>
            <a:r>
              <a:rPr b="1" lang="it-IT" sz="1200" spc="-1" strike="noStrike">
                <a:solidFill>
                  <a:srgbClr val="000000"/>
                </a:solidFill>
                <a:latin typeface="Tw Cen MT"/>
              </a:rPr>
              <a:t> sono state individuate le specifiche tecniche per la promozione dell’educazione finanziaria per gli adulti attraverso la prosecuzione delle attività relative al Progetto EDUFIN-CPIA (art. 3) e i criteri per il riparto delle somme fra i CPIA aderenti (art.5, comma 5).</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5231 del 29 aprile 2019 l’USR per la Toscana – Ufficio III ha trasmesso ai DS dei CPIA aderenti al Progetto Edufin III Edizione </a:t>
            </a:r>
            <a:r>
              <a:rPr b="0" lang="it-IT" sz="1200" spc="-1" strike="noStrike">
                <a:solidFill>
                  <a:srgbClr val="000000"/>
                </a:solidFill>
                <a:latin typeface="Tw Cen MT"/>
              </a:rPr>
              <a:t>e, p.c. alla DGOSV</a:t>
            </a:r>
            <a:r>
              <a:rPr b="1" lang="it-IT" sz="1200" spc="-1" strike="noStrike">
                <a:solidFill>
                  <a:srgbClr val="000000"/>
                </a:solidFill>
                <a:latin typeface="Tw Cen MT"/>
              </a:rPr>
              <a:t> il link al quale accedere per la compilazione del monitoraggio</a:t>
            </a:r>
            <a:r>
              <a:rPr b="1" lang="it-IT" sz="1200" spc="-1" strike="noStrike" u="sng">
                <a:solidFill>
                  <a:srgbClr val="000000"/>
                </a:solidFill>
                <a:uFillTx/>
                <a:latin typeface="Tw Cen MT"/>
              </a:rPr>
              <a:t> in itinere</a:t>
            </a:r>
            <a:r>
              <a:rPr b="0" lang="it-IT" sz="1200" spc="-1" strike="noStrike" u="sng">
                <a:solidFill>
                  <a:srgbClr val="000000"/>
                </a:solidFill>
                <a:uFillTx/>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5585 dell’11 luglio 2019 la DGOSV ha confermato l’incontro del Gruppo di Lavoro Nazionale P.A.I.DE.I.A.,</a:t>
            </a:r>
            <a:r>
              <a:rPr b="0" lang="it-IT" sz="1200" spc="-1" strike="noStrike">
                <a:solidFill>
                  <a:srgbClr val="000000"/>
                </a:solidFill>
                <a:latin typeface="Tw Cen MT"/>
              </a:rPr>
              <a:t> già previsto per il 23 luglio 2019, </a:t>
            </a:r>
            <a:r>
              <a:rPr b="1" lang="it-IT" sz="1200" spc="-1" strike="noStrike">
                <a:solidFill>
                  <a:srgbClr val="000000"/>
                </a:solidFill>
                <a:latin typeface="Tw Cen MT"/>
              </a:rPr>
              <a:t>e dato informazioni circa le tematiche oggetto dell’incontro, concernenti, fra l’altro, il Progetto EDUFIN CPIA, </a:t>
            </a:r>
            <a:r>
              <a:rPr b="0" lang="it-IT" sz="1200" spc="-1" strike="noStrike">
                <a:solidFill>
                  <a:srgbClr val="000000"/>
                </a:solidFill>
                <a:latin typeface="Tw Cen MT"/>
              </a:rPr>
              <a:t>in particolare: le previsioni normative di cui all’articolo 3 del decreto dipartimentale n. 98 del 7 febbraio 2019 (trasmesso con la citata nota DGOSV n.2474 dell’8 febbraio 2019), </a:t>
            </a:r>
            <a:r>
              <a:rPr b="1" lang="it-IT" sz="1200" spc="-1" strike="noStrike">
                <a:solidFill>
                  <a:srgbClr val="000000"/>
                </a:solidFill>
                <a:latin typeface="Tw Cen MT"/>
              </a:rPr>
              <a:t>con particolare riguardo all’analisi delle specifiche tecniche per la realizzazione delle attività e il relativo monitoraggio; la presentazione dei primi dati relativi al monitoraggio del progetto EDUFIN-CPIA III Edizione,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9608 del 31 luglio 2019 l’USR per la Toscana – Ufficio III ha trasmesso il Report sintetico del Monitoraggio Intermedio Aprile 2019 - Luglio 2019 del Progetto Edufin CPIA  III</a:t>
            </a:r>
            <a:r>
              <a:rPr b="0" lang="it-IT" sz="1200" spc="-1" strike="noStrike">
                <a:solidFill>
                  <a:srgbClr val="000000"/>
                </a:solidFill>
                <a:latin typeface="Tw Cen MT"/>
              </a:rPr>
              <a:t> </a:t>
            </a:r>
            <a:r>
              <a:rPr b="1" lang="it-IT" sz="1200" spc="-1" strike="noStrike">
                <a:solidFill>
                  <a:srgbClr val="000000"/>
                </a:solidFill>
                <a:latin typeface="Tw Cen MT"/>
              </a:rPr>
              <a:t>Edi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comunicazione del 5 settembre 2019 il coordinatore del Progetto Edufin CPIA ha trasmesso alla  coordinatrice del Comitato per l’Educazione Finanziaria la citata nota prot. n. 1149 del 18 gennaio 2019 con cui è stato dato avvio al Progetto Edufin CPIA III Edizione, le relative Linee guida Edufin, il Monitoraggio del Progetto EDUFIN CPIA 2017/2018 e il documento “Elaborazione Soglie per emendamento voci relative a conoscenze e abilità UDA” che illustra le modalità con cui sono state calcolate le diverse soglie di validità delle conoscenze e delle abilità delle UDA svolte nel percorso didattico formativo del progetto EDUFINCPIA, tramite le quali si è deciso quali conoscenze e abilità eventualmente emenda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2"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nota prot. n. 19955 del 25 settembre 2019 ad esito dell’incontro del 23 luglio 2019, la DGOSV ha richiamato agli Uffici Scolastici Regionali le decisioni assunte e trasmesso le presentazioni dei relatori intervenuti all’incontro medesimo. In particolare sono state trasmesse le slide contenenti i dati dei monitoraggi intermedi della terza edizione del Progetto EDUFIN, effettuati nei mesi di aprile e luglio 2019.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comunicazione del 31 ottobre 2019 il coordinatore del Gruppo di Lavoro Nazionale P.A.I.DE.I.A., </a:t>
            </a:r>
            <a:r>
              <a:rPr b="0" lang="it-IT" sz="1200" spc="-1" strike="noStrike">
                <a:solidFill>
                  <a:srgbClr val="000000"/>
                </a:solidFill>
                <a:latin typeface="Tw Cen MT"/>
              </a:rPr>
              <a:t>ai sensi di quanto previsto nel cronoprogramma presente nelle linee guida elaborate dal Gruppo Nazionale PAIDEIA e nel D.D. n 98 del 07/02/2019,</a:t>
            </a:r>
            <a:r>
              <a:rPr b="1" lang="it-IT" sz="1200" spc="-1" strike="noStrike">
                <a:solidFill>
                  <a:srgbClr val="000000"/>
                </a:solidFill>
                <a:latin typeface="Tw Cen MT"/>
              </a:rPr>
              <a:t> ha inviato ai CPIA partecipanti al Progetto EDUFIN III il link al quale accedere per la compilazione del monitoraggio, con scadenza  lunedì 11 novembre 2019.</a:t>
            </a:r>
            <a:endParaRPr b="0" lang="en-US" sz="1200" spc="-1" strike="noStrike">
              <a:solidFill>
                <a:srgbClr val="000000"/>
              </a:solidFill>
              <a:latin typeface="Tw Cen MT"/>
            </a:endParaRPr>
          </a:p>
        </p:txBody>
      </p:sp>
      <p:sp>
        <p:nvSpPr>
          <p:cNvPr id="27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5"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esente report è stato elaborato dall’USR Lombardia nella persona del prof. Corrado Cosenza, in collaborazione con il DS  Goffredo Manzo, su indicazione del Coordinatore del Gruppo nazionale PAIDE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Per la raccolta dei dati è stato creato un Modulo di Google ad accesso dedicato. Sono stati erogati tre monitoraggi distribuiti nei seguenti intervalli temporali come previsto nel cronoprogramma presente nelle linee guida elaborate dal Gruppo Nazionale PAIDEIA e nel D.D. n 98 del 07/02/2019:</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prile 2019 (dal 29 Aprile al 6 M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uglio 2019 (dall’ 8 Luglio al 17 Lugl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ovembre 2019 (dal 31 Ottobre al 20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dati riguardano la realizzazione del Progetto Edufin-CPIA III edizione a.s. 2018/19.</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prese in considerazione le risposte dei monitoraggi chiusi a  luglio e novembre 2019 </a:t>
            </a:r>
            <a:endParaRPr b="0" lang="en-US" sz="1200" spc="-1" strike="noStrike">
              <a:solidFill>
                <a:srgbClr val="000000"/>
              </a:solidFill>
              <a:latin typeface="Tw Cen MT"/>
            </a:endParaRPr>
          </a:p>
        </p:txBody>
      </p:sp>
      <p:sp>
        <p:nvSpPr>
          <p:cNvPr id="27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8"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Di seguito le casistiche di risposte dei monitoraggi di Luglio e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la tabella sono riportate le risposte relative alla domanda: </a:t>
            </a:r>
            <a:r>
              <a:rPr b="1" i="1" lang="it-IT" sz="1200" spc="-1" strike="noStrike">
                <a:solidFill>
                  <a:srgbClr val="000000"/>
                </a:solidFill>
                <a:latin typeface="Tw Cen MT"/>
              </a:rPr>
              <a:t>Sono stati attivati i corsi di alfabetizzazione finanziaria così come previsto dall'art. 3 comma 4 del D.D. 98 del 08/02/2019?</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9"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0" name="Immagine 1" descr=""/>
          <p:cNvPicPr/>
          <p:nvPr/>
        </p:nvPicPr>
        <p:blipFill>
          <a:blip r:embed="rId1"/>
          <a:stretch/>
        </p:blipFill>
        <p:spPr>
          <a:xfrm>
            <a:off x="2268360" y="3213000"/>
            <a:ext cx="532800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2"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e si volessero prendere in esame le sole risposte del monitoraggio conclusivo avremmo i seguenti esiti:</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8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4" name="Immagine 2" descr=""/>
          <p:cNvPicPr/>
          <p:nvPr/>
        </p:nvPicPr>
        <p:blipFill>
          <a:blip r:embed="rId1"/>
          <a:stretch/>
        </p:blipFill>
        <p:spPr>
          <a:xfrm>
            <a:off x="1116000" y="3429000"/>
            <a:ext cx="6210360" cy="161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6"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28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
        <p:nvSpPr>
          <p:cNvPr id="288" name="Rettangolo 1"/>
          <p:cNvSpPr/>
          <p:nvPr/>
        </p:nvSpPr>
        <p:spPr>
          <a:xfrm>
            <a:off x="1042920" y="2133720"/>
            <a:ext cx="70581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l monitoraggio, così come compilato (o non compilato), non soddisfa completamente i criteri di coerenza, attendibilità e rappresentatività dei dati propri dei monitoraggi di qualità.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0"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ossibili azioni futur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uova apertura del monitor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Obbligo di risposta e quindi impossibilità da parte dei CPIA di inviare il monitoraggio nel caso in cui non siano state compilate tutte le risposte</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vio della scheda di monitoraggio in automatico all’amministratore (USR Lombardia) ed alle e-mail istituzionali dei referenti regionali UUSSRR.</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tempi previsti per il nuovo monitoraggio potrebbero essere dal 15 dicembre 2019 al 15 gennaio 202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91"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4T12:17:09Z</dcterms:created>
  <dc:creator>Administrator</dc:creator>
  <dc:description/>
  <dc:language>en-US</dc:language>
  <cp:lastModifiedBy>Testi Paola</cp:lastModifiedBy>
  <cp:lastPrinted>2018-04-09T09:33:13Z</cp:lastPrinted>
  <dcterms:modified xsi:type="dcterms:W3CDTF">2020-10-19T09:13:05Z</dcterms:modified>
  <cp:revision>182</cp:revision>
  <dc:subject/>
  <dc:title>DECRETO DEL PRESIDENTE DELLA REPUBBLICA  29 ottobre 2012 , n. 263</dc:title>
</cp:coreProperties>
</file>